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0EA-7E48-4BA9-942D-7E1F42D9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B87-61DD-4FEB-88D6-4D79B0D9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60F-F963-4487-B4F6-768F571F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19DC-00D5-4FD9-B7A7-1074B993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298D-AEE9-4FAB-A706-FFC4930A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DA7-2F56-4C83-AD2B-7D831783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766-4AB4-4457-9A1F-C39497F4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477-52E3-4DA4-9994-5C90F3A4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64F-960E-4E66-8723-B58F7856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569A-F547-4661-A2D1-5B4B12F2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2FA-577A-4DA4-943D-42D7DE11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433-51E4-456D-A38E-FB8F8AE5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64E8-B327-427E-9FE7-6802D9DA78C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tic Theory and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0" t="1690" r="0" b="0"/>
          <a:stretch/>
        </p:blipFill>
        <p:spPr>
          <a:xfrm>
            <a:off x="838080" y="1990800"/>
            <a:ext cx="784872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Multiple Choice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ideal monatomic gas is compressed while its temperature is held constant. What happens to the internal energy of the has during this process, and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It decreases because the gas does work on its surround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It decreases because the molecules of an ideal gas colli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It does not change because the internal energy of an ideal gas depends only on its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It increases because work is done on the g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 It increases because the molecules travel a shorter path between coll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200400" y="2238480"/>
            <a:ext cx="2876400" cy="32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457200" y="457200"/>
            <a:ext cx="754380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(10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A cylinder with a movable frictionless piston contains an ideal gas that is initially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state 1 at 1 105 Pa, 373 K, and 0.25 m3. The gas is taken through a rever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thermodynamic cycle as shown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NewRomanPS-Italic"/>
              </a:rPr>
              <a:t>P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diagram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(a) Calculate the temperature of the gas when it is in the following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i. Stat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ii. Stat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(b) Calculate the net work done on the gas during the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(c) Was heat added to or removed from the gas during the cyc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____ Added ____ Re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886200" y="4343400"/>
            <a:ext cx="480060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rcRect l="25125" t="27841" r="25125" b="5041"/>
          <a:stretch/>
        </p:blipFill>
        <p:spPr>
          <a:xfrm>
            <a:off x="228600" y="1600200"/>
            <a:ext cx="4781520" cy="4800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rcRect l="30153" t="21000" r="25125" b="5041"/>
          <a:stretch/>
        </p:blipFill>
        <p:spPr>
          <a:xfrm>
            <a:off x="4343400" y="1600200"/>
            <a:ext cx="4114800" cy="4800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Response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tic Model for Ideal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as consists of molecules of mas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easeless random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ze of the molecules is negligible, in the sense that their diameters are much smaller than the average distance traveled betwee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lecules do not interact, except that they make perfect elastic collisions when they are in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l Gas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715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roth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3412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"zeroth law" states that if two systems are at the same time in thermal equilibrium with a third system, they are in thermal equilibrium with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21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irst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3412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energy is defined as the energy associated with the random, disordered motion of molec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71500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Law of Thermodyna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0" t="15338" r="0" b="0"/>
          <a:stretch/>
        </p:blipFill>
        <p:spPr>
          <a:xfrm>
            <a:off x="1143000" y="1600200"/>
            <a:ext cx="716292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V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yclic heat engine process, the PV diagram will be closed 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ide the loop is a representation of the amoun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during a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s done only when the volume of the gas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733560" cy="27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t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gine takes energy from a hot reservoir and uses part of it to do work, but is constrained by the second law of thermodynamics to exhaust part of the energy to a cold reservo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the automobile engine, the hot reservoir is the burning fuel and the cold reservoir is the environment to which the combustion products are exhau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not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efficient heat engine cycle is the Carnot cycle, consisting of tw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es and tw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iabat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not cycle can be thought of as the most efficient heat engine cycle allowed by physical la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approach the Carnot efficiency, the processes involved in the heat engine cycle must be reversible and involve no change in entr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4768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09:45:03Z</dcterms:created>
  <dc:creator>luongmo</dc:creator>
  <dc:description/>
  <dc:language>en-US</dc:language>
  <cp:lastModifiedBy>Lisa</cp:lastModifiedBy>
  <dcterms:modified xsi:type="dcterms:W3CDTF">2011-01-21T20:32:41Z</dcterms:modified>
  <cp:revision>34</cp:revision>
  <dc:subject/>
  <dc:title>Slide 1</dc:title>
</cp:coreProperties>
</file>